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08F-F990-46F4-893D-7B0BE85C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9E5-E4CF-440B-8CFC-92FABC3D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ABC-31D9-44FE-AE16-91AEE974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423-731C-4B7C-8143-0E043B1D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9F67-DC82-4935-BB55-DB1DEF38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9732-2564-4CF4-A8F0-E6E81D3E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CF88-E6C0-4096-8A8E-4DC100B8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B914-5AE6-4BE7-AB78-98AD4124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2449-0918-40F3-9A26-6EC99A06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F6C8-4962-4C91-994E-5F371C2F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3B32-8095-4950-BA67-4BF0881A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5E8-9423-4259-A3BD-235C99C7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AE92-37DB-426B-9256-BBEBB22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C94B-2D3C-4E2E-AEBB-01155A40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CC3F-BC7A-4D28-AA9A-9037CB31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6DE5-102B-4EB6-AB0F-86D49088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3BD4-FD08-416D-9647-AF8727BC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CF2-717D-45BE-86C1-EEB06C11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6A3-B048-431A-A329-3306FDB5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709-5C8B-419D-86A5-1F97A9C1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B87-F475-469E-9645-A7EE87A1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C9A-E1A9-441A-94B8-9230A58C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9ED-BF26-4F84-9E17-7AE399C1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D3D-E5A6-49F7-83DF-BF33EDD7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6B9D-9D61-4B9A-8D0B-515AAF56C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94B2-B3FE-4D9F-9DC1-795E6A8EC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Harassment, Intimidation and Bully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rd Grad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to Report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a staff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lk to a teacher, counselor or administ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lk to your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can give you advice, or help you talk to someone at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feel comfortable, bring up the situation during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j0283618"/>
          <p:cNvPicPr/>
          <p:nvPr/>
        </p:nvPicPr>
        <p:blipFill>
          <a:blip r:embed="rId1"/>
          <a:stretch/>
        </p:blipFill>
        <p:spPr>
          <a:xfrm>
            <a:off x="6934320" y="1371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 want you to be able to do when we’re finished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392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gn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j0292114"/>
          <p:cNvPicPr/>
          <p:nvPr/>
        </p:nvPicPr>
        <p:blipFill>
          <a:blip r:embed="rId1"/>
          <a:stretch/>
        </p:blipFill>
        <p:spPr>
          <a:xfrm>
            <a:off x="5029200" y="2666880"/>
            <a:ext cx="2703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Bullying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3927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instorm idea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4" descr="MCj04042630000[1]"/>
          <p:cNvPicPr/>
          <p:nvPr/>
        </p:nvPicPr>
        <p:blipFill>
          <a:blip r:embed="rId1"/>
          <a:stretch/>
        </p:blipFill>
        <p:spPr>
          <a:xfrm>
            <a:off x="5181480" y="2209680"/>
            <a:ext cx="27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rassment, Intimidation and Bully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12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.I.B.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llying is unfair and one-sided.  It happens when someone keeps hurting, frightening, threatening or leaving someone out on purpos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MCj03981490000[1]"/>
          <p:cNvPicPr/>
          <p:nvPr/>
        </p:nvPicPr>
        <p:blipFill>
          <a:blip r:embed="rId1"/>
          <a:stretch/>
        </p:blipFill>
        <p:spPr>
          <a:xfrm>
            <a:off x="5029200" y="4800600"/>
            <a:ext cx="1843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fferent kinds of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hitting, kicking, pushing, tou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b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preading rumors, name-calling, t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per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stealing, van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j0292094"/>
          <p:cNvPicPr/>
          <p:nvPr/>
        </p:nvPicPr>
        <p:blipFill>
          <a:blip r:embed="rId1"/>
          <a:stretch/>
        </p:blipFill>
        <p:spPr>
          <a:xfrm>
            <a:off x="7543800" y="4876920"/>
            <a:ext cx="1327320" cy="181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j0300529"/>
          <p:cNvPicPr/>
          <p:nvPr/>
        </p:nvPicPr>
        <p:blipFill>
          <a:blip r:embed="rId2"/>
          <a:stretch/>
        </p:blipFill>
        <p:spPr>
          <a:xfrm>
            <a:off x="4724280" y="3962520"/>
            <a:ext cx="1905120" cy="16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MCj02379220000[1]"/>
          <p:cNvPicPr/>
          <p:nvPr/>
        </p:nvPicPr>
        <p:blipFill>
          <a:blip r:embed="rId3"/>
          <a:stretch/>
        </p:blipFill>
        <p:spPr>
          <a:xfrm>
            <a:off x="6172200" y="1600200"/>
            <a:ext cx="2325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cognize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’t stop bullying if we can’t recognize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bullying ask yourself thes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fai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it fe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it keep happ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8" descr="MCj01345490000[1]"/>
          <p:cNvPicPr/>
          <p:nvPr/>
        </p:nvPicPr>
        <p:blipFill>
          <a:blip r:embed="rId1"/>
          <a:stretch/>
        </p:blipFill>
        <p:spPr>
          <a:xfrm>
            <a:off x="6375240" y="3048120"/>
            <a:ext cx="1778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it bullying or conflict? You decide.</a:t>
            </a:r>
            <a:br>
              <a:rPr sz="44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Face to face or Behind the back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6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5th grader corners you in the bathroom and tells you to give them your lun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become friends with a new student.  Your other friend comes over to you and whispers, “look at his clothes, yuck.  Don’t let him sit next to us at lunc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basketball court you foul another player while shooting.  They get mad and give you a dirty look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69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basketball court you foul another player while shooting.  They get mad and give you a dirty look.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ear that one of your classmates has started a rumor about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ings to do when Refusing bullying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y ca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a deep bre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 to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 a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your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_________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need to get calm” or “I’m oka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 or sit t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 with conf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t the person doing the bully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ak respectfully in a strong clear voice “Stop” or “Leave me alon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j0232608"/>
          <p:cNvPicPr/>
          <p:nvPr/>
        </p:nvPicPr>
        <p:blipFill>
          <a:blip r:embed="rId1"/>
          <a:stretch/>
        </p:blipFill>
        <p:spPr>
          <a:xfrm>
            <a:off x="6934320" y="2133720"/>
            <a:ext cx="16891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6:48:21Z</dcterms:created>
  <dc:creator>02989</dc:creator>
  <dc:description/>
  <dc:language>en-US</dc:language>
  <cp:lastModifiedBy>Jensen, Anne R.</cp:lastModifiedBy>
  <dcterms:modified xsi:type="dcterms:W3CDTF">2017-10-30T16:12:11Z</dcterms:modified>
  <cp:revision>18</cp:revision>
  <dc:subject/>
  <dc:title>Harassment, Intimidation and Bullying</dc:title>
</cp:coreProperties>
</file>