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F9D-F31F-4032-B71C-71F73F6F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69D-D4FF-4217-B6A7-69ED845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E45-B2A3-4271-8700-A1C6139E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037-F774-4EAA-8CC2-4645A5B5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E14D-D701-4146-B054-58FD4F58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1B56-7A69-48C8-968F-B3EB9120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BEB0-8EBF-4F55-85F6-A9058C4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050A-FBD3-409F-8AC6-3E5CD760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6372-51BF-42B2-BA73-AFBE7326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61BC-33FE-41B4-A84E-3C36B8F9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C44A-B526-4240-B6E8-E1BB33E6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46E-34F1-4A63-AEB7-87FB89D7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E410-EFD9-42E0-B2BA-3AFF52DF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A9EA-1367-473C-BF23-51D7E1DA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E5CB-7782-4568-8C7B-EEC444C6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6BFE-46E9-4F31-A9F4-64E45C41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92A6-3F5C-4B3B-9BE9-0FE6FB6A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61F-E4B8-445D-97CA-F191397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F9B-484A-42D2-992F-0DB24B34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C34-7A10-4C16-917F-19CB867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AFD-A560-42FC-9D6C-BEE83A7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A51-D6A1-4044-86F1-FFA2789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ED5-45BB-4119-9BC2-A78E7F51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3D1-C7E7-49E0-9860-C72CADF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7850-3685-4014-BEA6-80476B445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511D-2DB4-4BD2-B5DA-41A49DE65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rd Grad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Report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a staff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lk to a teacher, counselor or administ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lk to your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can give you advice, or help you talk to someone at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feel comfortable, bring up the situation during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j0283618"/>
          <p:cNvPicPr/>
          <p:nvPr/>
        </p:nvPicPr>
        <p:blipFill>
          <a:blip r:embed="rId1"/>
          <a:stretch/>
        </p:blipFill>
        <p:spPr>
          <a:xfrm>
            <a:off x="6934320" y="1371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 want you to be able to do when we’re finished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392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gn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j0292114"/>
          <p:cNvPicPr/>
          <p:nvPr/>
        </p:nvPicPr>
        <p:blipFill>
          <a:blip r:embed="rId1"/>
          <a:stretch/>
        </p:blipFill>
        <p:spPr>
          <a:xfrm>
            <a:off x="5029200" y="2666880"/>
            <a:ext cx="2703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Bullyin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3927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instorm idea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4" descr="MCj04042630000[1]"/>
          <p:cNvPicPr/>
          <p:nvPr/>
        </p:nvPicPr>
        <p:blipFill>
          <a:blip r:embed="rId1"/>
          <a:stretch/>
        </p:blipFill>
        <p:spPr>
          <a:xfrm>
            <a:off x="5181480" y="2209680"/>
            <a:ext cx="27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12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.I.B.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ying is unfair and one-sided.  It happens when someone keeps hurting, frightening, threatening or leaving someone out on purpo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MCj03981490000[1]"/>
          <p:cNvPicPr/>
          <p:nvPr/>
        </p:nvPicPr>
        <p:blipFill>
          <a:blip r:embed="rId1"/>
          <a:stretch/>
        </p:blipFill>
        <p:spPr>
          <a:xfrm>
            <a:off x="5029200" y="4800600"/>
            <a:ext cx="1843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itting, kicking, pushing, tou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b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preading rumors, name-calling, t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per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tealing, van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j0292094"/>
          <p:cNvPicPr/>
          <p:nvPr/>
        </p:nvPicPr>
        <p:blipFill>
          <a:blip r:embed="rId1"/>
          <a:stretch/>
        </p:blipFill>
        <p:spPr>
          <a:xfrm>
            <a:off x="7543800" y="4876920"/>
            <a:ext cx="132732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j0300529"/>
          <p:cNvPicPr/>
          <p:nvPr/>
        </p:nvPicPr>
        <p:blipFill>
          <a:blip r:embed="rId2"/>
          <a:stretch/>
        </p:blipFill>
        <p:spPr>
          <a:xfrm>
            <a:off x="4724280" y="3962520"/>
            <a:ext cx="1905120" cy="16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MCj02379220000[1]"/>
          <p:cNvPicPr/>
          <p:nvPr/>
        </p:nvPicPr>
        <p:blipFill>
          <a:blip r:embed="rId3"/>
          <a:stretch/>
        </p:blipFill>
        <p:spPr>
          <a:xfrm>
            <a:off x="6172200" y="1600200"/>
            <a:ext cx="2325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ogniz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’t stop bullying if we can’t recogniz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bullying ask yourself thes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fa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it fe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keep happ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MCj01345490000[1]"/>
          <p:cNvPicPr/>
          <p:nvPr/>
        </p:nvPicPr>
        <p:blipFill>
          <a:blip r:embed="rId1"/>
          <a:stretch/>
        </p:blipFill>
        <p:spPr>
          <a:xfrm>
            <a:off x="6375240" y="3048120"/>
            <a:ext cx="1778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it bullying or conflict? You decide.</a:t>
            </a:r>
            <a:br>
              <a:rPr sz="44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ce to face or Behind the back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6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5th grader corners you in the bathroom and tells you to give them your lun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become friends with a new student.  Your other friend comes over to you and whispers, “look at his clothes, yuck.  Don’t let him sit next to us at lunc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9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ear that one of your classmates has started a rumor about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ngs to do when Refusing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c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a deep br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a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your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_________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need to get calm” or “I’m oka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 or sit t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with conf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t the person doing the bull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ak respectfully in a strong clear voice “Stop” or “Leave me alon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j0232608"/>
          <p:cNvPicPr/>
          <p:nvPr/>
        </p:nvPicPr>
        <p:blipFill>
          <a:blip r:embed="rId1"/>
          <a:stretch/>
        </p:blipFill>
        <p:spPr>
          <a:xfrm>
            <a:off x="6934320" y="2133720"/>
            <a:ext cx="16891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6:48:21Z</dcterms:created>
  <dc:creator>02989</dc:creator>
  <dc:description/>
  <dc:language>en-US</dc:language>
  <cp:lastModifiedBy>Jensen, Anne R.</cp:lastModifiedBy>
  <dcterms:modified xsi:type="dcterms:W3CDTF">2017-10-30T16:12:11Z</dcterms:modified>
  <cp:revision>18</cp:revision>
  <dc:subject/>
  <dc:title>Harassment, Intimidation and Bullying</dc:title>
</cp:coreProperties>
</file>