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8.wmf" ContentType="image/x-wmf"/>
  <Override PartName="/ppt/media/image10.gif" ContentType="image/gif"/>
  <Override PartName="/ppt/media/image6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0688-ADD0-4738-AA16-CF96FB0A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A91-1B20-4170-962D-5CE7FF42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717-A532-4B92-BD9F-99740706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404-B37A-449F-BEEC-31CFB4B3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4C79-1280-44EF-8271-77070D26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E008-22E9-46BF-A870-49B3C0BA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3ACB-3631-4753-B3B1-935B532E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7A1E-0A92-4F88-9E00-1A64B8D7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4DE0-C528-48FA-8883-64C768F9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0756-AA55-4944-969C-DA3006D4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D12D-21DA-4C81-A6D8-AF67B0A1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AE2-047B-484B-BA34-2350323B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5526-A24F-4C50-A898-80B7B1AC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93F6-D9F4-4CA1-8D68-FD21F379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D255-5709-4A18-A84D-DA681AD3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3483-7E23-4309-AF71-4AAF3DAF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3527-366C-4420-8F00-0E6CD3C8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B72-E1B8-49F9-9AFC-987E5623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4D3-D968-4F51-B858-319A99C0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243C-3B00-4850-B025-7E70EACA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55E0-DD32-4D15-A83B-7827769A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64A-AB11-441E-9BCB-B684B94D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157-D1F3-49D1-B7D6-708C4DF4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7A74-8AD1-42BB-B6E2-B80BC436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3E37-031D-4FEB-9981-B9C73BDFD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925B-F0BA-4632-8DCD-31DCA91BC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Harassment, Intimidation and Bullying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4197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69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basketball court you foul another player while shooting.  They get mad and give you a dirty look.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ear that one of your classmates has started a rumor about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ings to do when Refusing bullying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553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y cal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 a deep bre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 to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lk a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 your feel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eel _________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need to get calm” or “I’m okay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dy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 or sit t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lk with confi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at the person doing the bully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ak respectfully in a strong clear voice “Stop” or “Leave me alone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j0232608"/>
          <p:cNvPicPr/>
          <p:nvPr/>
        </p:nvPicPr>
        <p:blipFill>
          <a:blip r:embed="rId1"/>
          <a:stretch/>
        </p:blipFill>
        <p:spPr>
          <a:xfrm>
            <a:off x="6934320" y="2133720"/>
            <a:ext cx="16891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to Report Bullying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239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l a staff 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lk to a teacher, counselor or administ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lk to your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can give you advice, or help you talk to someone at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feel comfortable, bring up the situation during conc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j0283618"/>
          <p:cNvPicPr/>
          <p:nvPr/>
        </p:nvPicPr>
        <p:blipFill>
          <a:blip r:embed="rId1"/>
          <a:stretch/>
        </p:blipFill>
        <p:spPr>
          <a:xfrm>
            <a:off x="6934320" y="1371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ther things to report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hurting them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know someone is being hurt at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omeone has drugs or alco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omeone has weapons at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ndalism or destruction of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 want you to be able to do when we’re finished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3927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gn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j0292114"/>
          <p:cNvPicPr/>
          <p:nvPr/>
        </p:nvPicPr>
        <p:blipFill>
          <a:blip r:embed="rId1"/>
          <a:stretch/>
        </p:blipFill>
        <p:spPr>
          <a:xfrm>
            <a:off x="5029200" y="2666880"/>
            <a:ext cx="2703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Bullying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3927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ainstorm idea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4" descr="MCj04042630000[1]"/>
          <p:cNvPicPr/>
          <p:nvPr/>
        </p:nvPicPr>
        <p:blipFill>
          <a:blip r:embed="rId1"/>
          <a:stretch/>
        </p:blipFill>
        <p:spPr>
          <a:xfrm>
            <a:off x="5181480" y="2209680"/>
            <a:ext cx="27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rassment, Intimidation and Bully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12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H.I.B.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llying is unfair and one-sided.  It happens when someone keeps hurting, frightening, threatening or leaving someone out on purpo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MCj03981490000[1]"/>
          <p:cNvPicPr/>
          <p:nvPr/>
        </p:nvPicPr>
        <p:blipFill>
          <a:blip r:embed="rId1"/>
          <a:stretch/>
        </p:blipFill>
        <p:spPr>
          <a:xfrm>
            <a:off x="5029200" y="4800600"/>
            <a:ext cx="18432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fferent kinds of bullying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hysi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hitting, kicking, pu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rb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spreading rumors, name-ca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xu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touching, teasing, rum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per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stealing, van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j0292094"/>
          <p:cNvPicPr/>
          <p:nvPr/>
        </p:nvPicPr>
        <p:blipFill>
          <a:blip r:embed="rId1"/>
          <a:stretch/>
        </p:blipFill>
        <p:spPr>
          <a:xfrm>
            <a:off x="7543800" y="4876920"/>
            <a:ext cx="1327320" cy="181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j0300529"/>
          <p:cNvPicPr/>
          <p:nvPr/>
        </p:nvPicPr>
        <p:blipFill>
          <a:blip r:embed="rId2"/>
          <a:stretch/>
        </p:blipFill>
        <p:spPr>
          <a:xfrm>
            <a:off x="4724280" y="3962520"/>
            <a:ext cx="1905120" cy="160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MCj02379220000[1]"/>
          <p:cNvPicPr/>
          <p:nvPr/>
        </p:nvPicPr>
        <p:blipFill>
          <a:blip r:embed="rId3"/>
          <a:stretch/>
        </p:blipFill>
        <p:spPr>
          <a:xfrm>
            <a:off x="6172200" y="1600200"/>
            <a:ext cx="2325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cognize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6553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’t stop bullying if we can’t recognize 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cognize bullying ask yourself these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t fai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it fe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it keep happe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8" descr="MCj01345490000[1]"/>
          <p:cNvPicPr/>
          <p:nvPr/>
        </p:nvPicPr>
        <p:blipFill>
          <a:blip r:embed="rId1"/>
          <a:stretch/>
        </p:blipFill>
        <p:spPr>
          <a:xfrm>
            <a:off x="6375240" y="3048120"/>
            <a:ext cx="1778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’s the difference between bullying and confli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624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lict is a disagreement that happens when two people want different things.  In a conflict the people have equal power and they can work together to solve the problem.  They are not purposely trying to hurt each other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is different than the definition of bullying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1" descr="MCj02991170000[1]"/>
          <p:cNvPicPr/>
          <p:nvPr/>
        </p:nvPicPr>
        <p:blipFill>
          <a:blip r:embed="rId1"/>
          <a:stretch/>
        </p:blipFill>
        <p:spPr>
          <a:xfrm>
            <a:off x="6553080" y="1219320"/>
            <a:ext cx="23623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ys bullying can happen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 to face:  The bully is openly doing something to someone.  Brainstorm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ind the back:  The is harder to recognize because the person may not know who’s doing the bullying, or they may not even know it’s happening.  Brainstorm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it bullying or conflict? You decide.</a:t>
            </a:r>
            <a:br>
              <a:rPr sz="44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Face to face or Behind the back?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6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5th grader corners you in the bathroom and tells you to give them your lun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become friends with a new student.  Your other friend comes over to you and whispers, “look at his clothes, yuck.  Don’t let him sit next to us at lunch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basketball court you foul another player while shooting.  They get mad and give you a dirty look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6:48:21Z</dcterms:created>
  <dc:creator>02989</dc:creator>
  <dc:description/>
  <dc:language>en-US</dc:language>
  <cp:lastModifiedBy>Jensen, Anne R.</cp:lastModifiedBy>
  <dcterms:modified xsi:type="dcterms:W3CDTF">2017-10-30T16:10:03Z</dcterms:modified>
  <cp:revision>16</cp:revision>
  <dc:subject/>
  <dc:title>Harassment, Intimidation and Bullying</dc:title>
</cp:coreProperties>
</file>