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8.wmf" ContentType="image/x-wmf"/>
  <Override PartName="/ppt/media/image10.gif" ContentType="image/gif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8B6-DA70-4DD0-B642-E65D4B4D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3E3-68C6-4602-923D-9AFD2C6E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889-A4C0-49B8-9520-5AED7FEE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694-90E8-4974-82F4-C51C1BED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9CF8-CC9E-45A1-9125-712029BC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BD86-8B8B-41C7-A63E-F7DD9481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EEB6-50DF-49CC-BAF9-F9B21713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4923-C840-4D42-9A3C-2501FA19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339B-0388-4548-BC53-9EABE912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1264-4810-43A7-BBC7-A379835B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B9DA-A105-4C36-B3D9-8B0266ED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844-370A-4DE4-A572-7BE44354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5726-9634-4CB1-B76E-1D917F0B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8812-EC29-4AA5-A546-4B05B263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DB9B-CC27-4B31-B613-E9F151A6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5803-856B-4CCE-8B62-3C66FD73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7697-4DBE-4EEB-AEFF-E7152B89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DD5-D2DC-42E6-9E5D-0E6A611A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0C9-5315-459E-B83C-80283D23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CD7-92D8-41BD-B937-B9A73635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73E-7AAF-4269-BA44-98BE1B9F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646-8971-4CB2-AE25-A78DE457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F46-BF2C-446A-A63C-805BB121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99EA-D0F3-4D98-BA53-0617362C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591B-E643-4571-8F2A-F6982D516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4A85-728A-4F59-A6F2-FE69B7084F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Harassment, Intimidation and Bullying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69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basketball court you foul another player while shooting.  They get mad and give you a dirty look.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ear that one of your classmates has started a rumor about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ings to do when Refusing bullying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553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y ca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 a deep bre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 to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k a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 your feel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eel _________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need to get calm” or “I’m okay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dy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 or sit t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k with confi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at the person doing the bully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ak respectfully in a strong clear voice “Stop” or “Leave me alon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j0232608"/>
          <p:cNvPicPr/>
          <p:nvPr/>
        </p:nvPicPr>
        <p:blipFill>
          <a:blip r:embed="rId1"/>
          <a:stretch/>
        </p:blipFill>
        <p:spPr>
          <a:xfrm>
            <a:off x="6934320" y="2133720"/>
            <a:ext cx="16891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to Report Bullying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239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l a staff 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lk to a teacher, counselor or administ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lk to your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can give you advice, or help you talk to someone at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feel comfortable, bring up the situation during conc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j0283618"/>
          <p:cNvPicPr/>
          <p:nvPr/>
        </p:nvPicPr>
        <p:blipFill>
          <a:blip r:embed="rId1"/>
          <a:stretch/>
        </p:blipFill>
        <p:spPr>
          <a:xfrm>
            <a:off x="6934320" y="1371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ther things to report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hurting them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know someone is being hurt at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omeone has drugs or alc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omeone has weapons at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ndalism or destruction of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 want you to be able to do when we’re finished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3927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gn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j0292114"/>
          <p:cNvPicPr/>
          <p:nvPr/>
        </p:nvPicPr>
        <p:blipFill>
          <a:blip r:embed="rId1"/>
          <a:stretch/>
        </p:blipFill>
        <p:spPr>
          <a:xfrm>
            <a:off x="5029200" y="2666880"/>
            <a:ext cx="2703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Bullying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3927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ainstorm idea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4" descr="MCj04042630000[1]"/>
          <p:cNvPicPr/>
          <p:nvPr/>
        </p:nvPicPr>
        <p:blipFill>
          <a:blip r:embed="rId1"/>
          <a:stretch/>
        </p:blipFill>
        <p:spPr>
          <a:xfrm>
            <a:off x="5181480" y="2209680"/>
            <a:ext cx="27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rassment, Intimidation and Bully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12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H.I.B.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llying is unfair and one-sided.  It happens when someone keeps hurting, frightening, threatening or leaving someone out on purpo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MCj03981490000[1]"/>
          <p:cNvPicPr/>
          <p:nvPr/>
        </p:nvPicPr>
        <p:blipFill>
          <a:blip r:embed="rId1"/>
          <a:stretch/>
        </p:blipFill>
        <p:spPr>
          <a:xfrm>
            <a:off x="5029200" y="4800600"/>
            <a:ext cx="18432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fferent kinds of bullying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hys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hitting, kicking, pu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b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spreading rumors, name-ca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xu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touching, teasing, rum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per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stealing, van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j0292094"/>
          <p:cNvPicPr/>
          <p:nvPr/>
        </p:nvPicPr>
        <p:blipFill>
          <a:blip r:embed="rId1"/>
          <a:stretch/>
        </p:blipFill>
        <p:spPr>
          <a:xfrm>
            <a:off x="7543800" y="4876920"/>
            <a:ext cx="1327320" cy="181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j0300529"/>
          <p:cNvPicPr/>
          <p:nvPr/>
        </p:nvPicPr>
        <p:blipFill>
          <a:blip r:embed="rId2"/>
          <a:stretch/>
        </p:blipFill>
        <p:spPr>
          <a:xfrm>
            <a:off x="4724280" y="3962520"/>
            <a:ext cx="1905120" cy="160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MCj02379220000[1]"/>
          <p:cNvPicPr/>
          <p:nvPr/>
        </p:nvPicPr>
        <p:blipFill>
          <a:blip r:embed="rId3"/>
          <a:stretch/>
        </p:blipFill>
        <p:spPr>
          <a:xfrm>
            <a:off x="6172200" y="1600200"/>
            <a:ext cx="2325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cognize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6553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’t stop bullying if we can’t recognize 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cognize bullying ask yourself these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t fai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it fe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it keep happe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8" descr="MCj01345490000[1]"/>
          <p:cNvPicPr/>
          <p:nvPr/>
        </p:nvPicPr>
        <p:blipFill>
          <a:blip r:embed="rId1"/>
          <a:stretch/>
        </p:blipFill>
        <p:spPr>
          <a:xfrm>
            <a:off x="6375240" y="3048120"/>
            <a:ext cx="1778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’s the difference between bullying and confli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624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lict is a disagreement that happens when two people want different things.  In a conflict the people have equal power and they can work together to solve the problem.  They are not purposely trying to hurt each other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is different than the definition of bullying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1" descr="MCj02991170000[1]"/>
          <p:cNvPicPr/>
          <p:nvPr/>
        </p:nvPicPr>
        <p:blipFill>
          <a:blip r:embed="rId1"/>
          <a:stretch/>
        </p:blipFill>
        <p:spPr>
          <a:xfrm>
            <a:off x="6553080" y="1219320"/>
            <a:ext cx="23623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ys bullying can happen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 to face:  The bully is openly doing something to someone.  Brainstorm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ind the back:  The is harder to recognize because the person may not know who’s doing the bullying, or they may not even know it’s happening.  Brainstorm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it bullying or conflict? You decide.</a:t>
            </a:r>
            <a:br>
              <a:rPr sz="44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Face to face or Behind the back?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6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5th grader corners you in the bathroom and tells you to give them your lun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become friends with a new student.  Your other friend comes over to you and whispers, “look at his clothes, yuck.  Don’t let him sit next to us at lunch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basketball court you foul another player while shooting.  They get mad and give you a dirty look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6:48:21Z</dcterms:created>
  <dc:creator>02989</dc:creator>
  <dc:description/>
  <dc:language>en-US</dc:language>
  <cp:lastModifiedBy>Jensen, Anne R.</cp:lastModifiedBy>
  <dcterms:modified xsi:type="dcterms:W3CDTF">2017-10-30T16:10:03Z</dcterms:modified>
  <cp:revision>16</cp:revision>
  <dc:subject/>
  <dc:title>Harassment, Intimidation and Bullying</dc:title>
</cp:coreProperties>
</file>