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9AB4-E400-4821-A0B3-B4A6647A0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D6D8-CF70-40BD-943C-985FE405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CA59-278A-41CC-88C2-DBFC19A8F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EE76-6401-4BD3-9CC7-533A15CE3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AD2A-EEC9-46AB-A018-1808FD67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64E8-7B56-45AF-8BAD-B2A059AE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9925-AA4C-4598-809D-E9E021E1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C23F-AC11-4862-B759-F77B5CBA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B32A-B4B7-4076-8613-2A593307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DFFC-DCCA-47CB-8AF2-E743DB68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FA51-1ECA-47EE-B383-405C627C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C6B6-7EC7-4B65-816B-8AC93732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DFFE-C875-4D20-8090-9B6F9E4DA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914400"/>
          <a:ext cx="8610480" cy="5335560"/>
        </p:xfrm>
        <a:graphic>
          <a:graphicData uri="http://schemas.openxmlformats.org/drawingml/2006/table">
            <a:tbl>
              <a:tblPr/>
              <a:tblGrid>
                <a:gridCol w="2870280"/>
                <a:gridCol w="2870280"/>
                <a:gridCol w="2869920"/>
              </a:tblGrid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T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Th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, Defin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, Identif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is, Compare, Contrast, Organize, Infer, Explain, Support ideas w/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agine, Predict, Judge, Generalize, Apply information, Evaluate in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5080" indent="-23508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the responding variab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23508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the phase of the moon during a lunar eclips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23508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e peristalsi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5080" indent="-23508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o moon phases appear different when they are viewed from space to when they are viewed from Earth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23508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are the strengths and weaknesses of the model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23508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be how the circulatory system work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5080" indent="-23508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 body system do you think is the most important and wh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23508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can a space shuttle use gravit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23508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an investiga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1580400" y="228600"/>
            <a:ext cx="574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a’s Three Levels of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28600" y="533520"/>
          <a:ext cx="4038480" cy="558144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T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Th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, Define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, Identif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is, Compare, Contrast, Organize, Infer, Explain, Support ideas w/evid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agine, Predict, Judge, Generalize, Apply information, Evaluate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5080" indent="-2350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the responding variabl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2350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the phase of the moon during a lunar eclips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2350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e peristalsi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5080" indent="-2350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o moon phases appear different when they are viewed from space to when they are viewed from Earth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2350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are the strengths and weaknesses of the model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2350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be how the circulatory system wor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5080" indent="-2350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 body system do you think is the most important and why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2350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can a space shuttle use gravity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2350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an investig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58840" y="152280"/>
            <a:ext cx="37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sta’s Three Levels of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83120" y="152280"/>
            <a:ext cx="37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sta’s Three Levels of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876920" y="533520"/>
          <a:ext cx="4038480" cy="558144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T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Th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, Define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, Identif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is, Compare, Contrast, Organize, Infer, Explain, Support ideas w/evid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agine, Predict, Judge, Generalize, Apply information, Evaluate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5080" indent="-2350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the responding variabl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2350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the phase of the moon during a lunar eclips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2350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e peristalsi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5080" indent="-2350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o moon phases appear different when they are viewed from space to when they are viewed from Earth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2350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are the strengths and weaknesses of the model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2350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be how the circulatory system wor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5080" indent="-2350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 body system do you think is the most important and why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2350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can a space shuttle use gravity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2350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an investig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2T04:07:08Z</dcterms:created>
  <dc:creator>Melissa Johnson</dc:creator>
  <dc:description/>
  <dc:language>en-US</dc:language>
  <cp:lastModifiedBy>Melissa Johnson</cp:lastModifiedBy>
  <dcterms:modified xsi:type="dcterms:W3CDTF">2011-01-02T04:16:53Z</dcterms:modified>
  <cp:revision>3</cp:revision>
  <dc:subject/>
  <dc:title>Slide 1</dc:title>
</cp:coreProperties>
</file>