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E849-A90A-478D-81BF-AAD97C7A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27C3-CE9D-44B0-8981-EBBA3423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131-BA46-408D-9CA6-D0AD6559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096-90A8-4243-BF78-B525170D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FCC-195B-40A9-9B31-054EA4B3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1AB-0FE4-4388-9033-BA3BFCF0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AF2-B689-4923-9A09-B50E9EC9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9BCE-C715-4174-B63D-EA9D6F98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D279-703F-4E74-B8DD-F4CF5379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5AC-0FCF-48A8-8BF0-2F13FF96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919-A6F1-4551-B8DA-BE3934F0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DE4A-6F1F-42FE-8D96-8F778A29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D649-A672-443A-B5C0-5F303A1B8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914400"/>
          <a:ext cx="8610480" cy="533556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Th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, Defin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, Identif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, Compare, Contrast, Organize, Infer, Explain, Support ideas w/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ine, Predict, Judge, Generalize, Apply information, Evaluate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responding variab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phase of the moon during a lunar eclips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peristals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moon phases appear different when they are viewed from space to when they are viewed from Earth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e strengths and weaknesses of the mode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be how the circulatory system work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 body system do you think is the most important and wh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can a space shuttle use gravit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n investig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580400" y="228600"/>
            <a:ext cx="57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a’s Three Levels of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8600" y="533520"/>
          <a:ext cx="4038480" cy="55814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Th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, Define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, Identif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, Compare, Contrast, Organize, Infer, Explain, Support ideas w/evid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ine, Predict, Judge, Generalize, Apply information, Evaluate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responding variabl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phase of the moon during a lunar eclips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peristals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moon phases appear different when they are viewed from space to when they are viewed from Earth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e strengths and weaknesses of the model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be how the circulatory system wor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 body system do you think is the most important and wh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can a space shuttle use gravit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n investig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58840" y="15228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sta’s Three Levels of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83120" y="15228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sta’s Three Levels of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876920" y="533520"/>
          <a:ext cx="4038480" cy="55814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Th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, Define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, Identif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, Compare, Contrast, Organize, Infer, Explain, Support ideas w/evid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ine, Predict, Judge, Generalize, Apply information, Evaluate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responding variabl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phase of the moon during a lunar eclips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peristals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moon phases appear different when they are viewed from space to when they are viewed from Earth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e strengths and weaknesses of the model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be how the circulatory system wor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 body system do you think is the most important and wh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can a space shuttle use gravit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n investig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04:07:08Z</dcterms:created>
  <dc:creator>Melissa Johnson</dc:creator>
  <dc:description/>
  <dc:language>en-US</dc:language>
  <cp:lastModifiedBy>Melissa Johnson</cp:lastModifiedBy>
  <dcterms:modified xsi:type="dcterms:W3CDTF">2011-01-02T04:16:53Z</dcterms:modified>
  <cp:revision>3</cp:revision>
  <dc:subject/>
  <dc:title>Slide 1</dc:title>
</cp:coreProperties>
</file>